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CFC-9EA0-4B48-9755-F99696FB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4AA-B6CF-4123-BB92-1F28020D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120-FFBA-455E-B49F-5486FCB8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3DB-A006-4EAE-BADB-7231C552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E8D-2895-4AA5-9EF8-1BD441A4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9C6-20B5-4074-8E88-241B5DEA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91E-122A-4E77-87ED-1C214FC1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DDF-4E40-4854-8055-71BCB2DC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8C6-A9B4-41AA-9681-296B9B74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675-8D9E-43A8-A907-B6A2334D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644-3C3C-4937-8CD5-D40386CA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F42-F2DF-4A93-BA1A-675555DD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5C0C-9E4E-4142-AB46-20BFD111D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kazakhstan.orexca.com/kazakhstan_culture6.shtml" TargetMode="External"/><Relationship Id="rId3" Type="http://schemas.openxmlformats.org/officeDocument/2006/relationships/hyperlink" Target="http://www.kazakhstan.orexca.com/kazakhstan_history.shtml" TargetMode="External"/><Relationship Id="rId4" Type="http://schemas.openxmlformats.org/officeDocument/2006/relationships/hyperlink" Target="https://www.cia.gov/library/publications/the-world-factbook/geos/kz.html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Flag of Kazakhstan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zakh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 Flinchbaugh   B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azakhstan.orexca.com/kazakhstan_culture6.shtm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2/23/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kazakhstan.orexca.com/kazakhstan_history.shtm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2/23/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cia.gov/library/publications/the-world-factbook/geos/kz.htm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2/18/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west of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8 00 N     68 00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4 times the size of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ga and Altai mounta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l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Natur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28 percent a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ne to earthqu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su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d and semia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 Nursultan A. Nazarbay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e Minister Karim Masi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al-Asta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expectancy-67.5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-15,340,5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and Curren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ce from the Soviet Union December 16, 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constitution January 28, 1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zakhstan will now allow the US to ship non military goods through their country to Afghan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9.5 percent literac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 force 8.358 m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cy t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0.25 tenge for a US dol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 electricity, oil, and natural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, russian orthodox, protestant,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s Russian and Kazak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house called Y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s kazy, koten, and zh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ces to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den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ai Mountain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cal sites the great silk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9:18:54Z</dcterms:created>
  <dc:creator>nicholasfflinchbaugh</dc:creator>
  <dc:description/>
  <dc:language>en-US</dc:language>
  <cp:lastModifiedBy>McFaddeR</cp:lastModifiedBy>
  <dcterms:modified xsi:type="dcterms:W3CDTF">2009-03-06T19:43:01Z</dcterms:modified>
  <cp:revision>5</cp:revision>
  <dc:subject/>
  <dc:title>Kazakhstan</dc:title>
</cp:coreProperties>
</file>